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media/image7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4027-0E4E-431F-887B-E03C21880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EBE0-F2C0-489D-AAA8-52A63F85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8CB8-F665-4397-879B-F78A3365F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25BA-8C8A-47A7-AC72-D02A0B24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5644-E821-4F30-8E99-1ADC1044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7BBC-0297-478F-95A4-3063A0ED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9ED2-7373-4060-A30C-51A10FBB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A78A-24F6-468F-A106-D637A3CD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5D2C-C3AD-4932-A793-44A6B397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0949-4798-4EE5-AB89-97B33794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0371-6CBC-470E-BC14-87D59DA5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3DFB-FA1E-415C-BFA1-1197FD23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BA56-15DC-48D3-9DB3-20EAFC00979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nferior_pancreaticoduodenal_artery" TargetMode="External"/><Relationship Id="rId2" Type="http://schemas.openxmlformats.org/officeDocument/2006/relationships/hyperlink" Target="http://en.wikipedia.org/wiki/Pancreas" TargetMode="External"/><Relationship Id="rId3" Type="http://schemas.openxmlformats.org/officeDocument/2006/relationships/hyperlink" Target="http://en.wikipedia.org/wiki/Duodenum" TargetMode="External"/><Relationship Id="rId4" Type="http://schemas.openxmlformats.org/officeDocument/2006/relationships/hyperlink" Target="http://en.wikipedia.org/wiki/Middle_colic_artery" TargetMode="External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9172b"/>
                </a:solidFill>
                <a:latin typeface="Arial"/>
              </a:rPr>
              <a:t>Superior mesenteric </a:t>
            </a:r>
            <a:br>
              <a:rPr sz="5400"/>
            </a:br>
            <a:r>
              <a:rPr b="0" lang="en-US" sz="5400" spc="-1" strike="noStrike">
                <a:solidFill>
                  <a:srgbClr val="e9172b"/>
                </a:solidFill>
                <a:latin typeface="Arial"/>
              </a:rPr>
              <a:t>arte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Origi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descending abdominal aorta 1cm below coeliac trunk at the level of lower border of 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eb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origin"/>
          <p:cNvPicPr/>
          <p:nvPr/>
        </p:nvPicPr>
        <p:blipFill>
          <a:blip r:embed="rId1"/>
          <a:stretch/>
        </p:blipFill>
        <p:spPr>
          <a:xfrm>
            <a:off x="2484360" y="3357720"/>
            <a:ext cx="38880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Course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316872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ccompanied by superior mesenteric vein on its right side and both of them run in the root of mesen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course"/>
          <p:cNvPicPr/>
          <p:nvPr/>
        </p:nvPicPr>
        <p:blipFill>
          <a:blip r:embed="rId1"/>
          <a:stretch/>
        </p:blipFill>
        <p:spPr>
          <a:xfrm>
            <a:off x="4140360" y="1413000"/>
            <a:ext cx="482436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Structures supplied by SMA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suppli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idg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mid gut"/>
          <p:cNvPicPr/>
          <p:nvPr/>
        </p:nvPicPr>
        <p:blipFill>
          <a:blip r:embed="rId1"/>
          <a:stretch/>
        </p:blipFill>
        <p:spPr>
          <a:xfrm>
            <a:off x="250920" y="2060640"/>
            <a:ext cx="4248000" cy="4321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mid"/>
          <p:cNvPicPr/>
          <p:nvPr/>
        </p:nvPicPr>
        <p:blipFill>
          <a:blip r:embed="rId2"/>
          <a:stretch/>
        </p:blipFill>
        <p:spPr>
          <a:xfrm>
            <a:off x="4716360" y="2060640"/>
            <a:ext cx="3976920" cy="43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anches of sup. mesenteric 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4249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nferior pancreaticoduodenal art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Suppl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 of th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ncre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o the descending and inferior parts of the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uode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middle colic art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Supplies to the transverse col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ht colic art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ascending col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stinal arter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branches to ileum,  jejun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eocolic art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(terminal branch of the SMA) supplies last part of ileum, cecum, and appendi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termi"/>
          <p:cNvPicPr/>
          <p:nvPr/>
        </p:nvPicPr>
        <p:blipFill>
          <a:blip r:embed="rId5"/>
          <a:stretch/>
        </p:blipFill>
        <p:spPr>
          <a:xfrm>
            <a:off x="4211640" y="1916280"/>
            <a:ext cx="476244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4358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mall intestine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convoluted tube, about 6 meters long, extending fr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ylor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eo-cecal val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ituated centrally in the abdominal cavity and is flanked laterally and superiorly by the large intest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250920" y="2997360"/>
            <a:ext cx="864216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visions: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Duodenum    2. Jejunum           3. Ile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Jejunum and ile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form the mobile part of the small intestine, suspended from the posterior abdominal wall by a mesent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junum              Ile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ngt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ximal 2/5 (8 feet)   distal 3/5 (12 fe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meter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                Na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terial arca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 and simple           Numerous and comple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755640" y="3645000"/>
            <a:ext cx="3438360" cy="273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5148360" y="3500280"/>
            <a:ext cx="3384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ejunum              Ile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-  Mesentery: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 fat,+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fat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Mucosal Circular Folds:   Numerous                        F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Plica Circular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http://flylib.com/books/3/98/1/html/2/135_files/DA2DB3DC4C135FF1.png"/>
          <p:cNvPicPr/>
          <p:nvPr/>
        </p:nvPicPr>
        <p:blipFill>
          <a:blip r:embed="rId1"/>
          <a:stretch/>
        </p:blipFill>
        <p:spPr>
          <a:xfrm>
            <a:off x="2268360" y="1413000"/>
            <a:ext cx="2448000" cy="201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Jejunum Partly Opened"/>
          <p:cNvPicPr/>
          <p:nvPr/>
        </p:nvPicPr>
        <p:blipFill>
          <a:blip r:embed="rId2"/>
          <a:stretch/>
        </p:blipFill>
        <p:spPr>
          <a:xfrm>
            <a:off x="2124000" y="4365720"/>
            <a:ext cx="2592360" cy="2232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Ileum Partly Opened (Toldt)"/>
          <p:cNvPicPr/>
          <p:nvPr/>
        </p:nvPicPr>
        <p:blipFill>
          <a:blip r:embed="rId3"/>
          <a:stretch/>
        </p:blipFill>
        <p:spPr>
          <a:xfrm>
            <a:off x="5724360" y="4437000"/>
            <a:ext cx="28083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ejunum          Ile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35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- Wall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     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thick                    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-</a:t>
            </a:r>
            <a:r>
              <a:rPr b="0" lang="ar-EG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er’s patches:   -ve                  +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8920" y="259920"/>
            <a:ext cx="4248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entery of the small intest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s a fan- shaped peritoneal fold which has an anterior free border and posterior attached border. The anterior border contains the jejunum and ileum and is 6 meter long. The posterior border is the root of mesentery and is 6 inches l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4572000" y="1197000"/>
            <a:ext cx="4321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78544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s crossed by the root of the mesentery (6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rd part of duode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dominal aorta and right gonadal vess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C.   Right psoas major.  Right u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genitor-femoral ner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606600" y="2538360"/>
            <a:ext cx="7632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4321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ts of the mesenter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mesenteric art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ior mesenteric v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ils of the small inte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peritoneal tissue and f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pathetic nerve fi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enteric LN (arranged in three groups: large, medium, and small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tretch/>
        </p:blipFill>
        <p:spPr>
          <a:xfrm>
            <a:off x="4211640" y="1052640"/>
            <a:ext cx="46404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11:30:00Z</dcterms:created>
  <dc:creator>Prof. Dr. Shawky</dc:creator>
  <dc:description/>
  <dc:language>en-US</dc:language>
  <cp:lastModifiedBy>Safa Osman</cp:lastModifiedBy>
  <dcterms:modified xsi:type="dcterms:W3CDTF">2016-02-22T12:50:00Z</dcterms:modified>
  <cp:revision>9</cp:revision>
  <dc:subject/>
  <dc:title>Slide 1</dc:title>
</cp:coreProperties>
</file>